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9096-3C51-4AAA-AC27-C6D6BECA8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CFB6-44AF-4610-A50E-23F394C785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7635-3F6D-4DF0-BB82-D872629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DC318-919E-4994-BCE9-23153C9E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B40F4-E143-4865-A457-706B9013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FF4A1-1969-42A3-96A0-96DAE1AC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5EF7-46CF-42E4-96A8-0F1CCF2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E20AF-62CE-49EE-A1FE-36A0C15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81EB2-9B54-4642-B368-4FDF82B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CBE7A-3DEF-44EA-9B0F-F0FC1310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02C98-EFCD-48D8-8ED0-E27D6028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FE09-0302-49D1-A579-B6F29D791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B7C0-6521-4B13-BC17-BCCB27B66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A93A-F0F4-4362-8CFE-DB9FB535B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27B3-0C44-4031-A356-AC0D229FF4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CF5B-D085-4B57-8AE7-26ED2CF55C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F9C5-A913-4336-B3DC-ABF882476B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E067-D7A4-4E05-B741-1408D31B8E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1DE3-9D2E-49FA-A7BD-5F3DC21E2E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1D4C-2283-4A30-8E17-2A85512DAC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BE34-847D-49EB-A468-27293BC506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370160" y="770040"/>
            <a:ext cx="7315200" cy="77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03360" y="4746600"/>
            <a:ext cx="358164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939000" y="243792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10336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939000" y="4746600"/>
            <a:ext cx="174780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31440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525440" y="243792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0336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631440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7525440" y="4746600"/>
            <a:ext cx="1153080" cy="210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5B946-6C4B-4225-A392-6CB05E04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8089F-B3B6-491C-9600-8E39C4E3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41248-7837-4021-BCDE-8CF07E8C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hyperlink" Target="https://www.ssvpscotland.com/ssvpyouth/young-adults/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3280" y="6401520"/>
            <a:ext cx="263520" cy="27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AE4B8-4EA3-4D6E-8247-461F0D313A0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11160" y="0"/>
            <a:ext cx="9132840" cy="685800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0" y="0"/>
            <a:ext cx="409680" cy="6858000"/>
          </a:xfrm>
          <a:prstGeom prst="rect">
            <a:avLst/>
          </a:prstGeom>
          <a:solidFill>
            <a:srgbClr val="436da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Box 6"/>
          <p:cNvSpPr/>
          <p:nvPr/>
        </p:nvSpPr>
        <p:spPr>
          <a:xfrm rot="16200000">
            <a:off x="-3182760" y="3203280"/>
            <a:ext cx="6775560" cy="368280"/>
          </a:xfrm>
          <a:prstGeom prst="rect">
            <a:avLst/>
          </a:prstGeom>
          <a:solidFill>
            <a:srgbClr val="436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haroni"/>
                <a:ea typeface="BatangChe"/>
              </a:rPr>
              <a:t>SOCIETY OF ST VINCENT DE PAUL (SCOTLAN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rcRect l="44446" t="58183" r="30404" b="18544"/>
          <a:stretch/>
        </p:blipFill>
        <p:spPr>
          <a:xfrm>
            <a:off x="6321600" y="5180040"/>
            <a:ext cx="2759040" cy="1595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23880" y="108000"/>
            <a:ext cx="7002360" cy="2506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1160" y="0"/>
            <a:ext cx="9132840" cy="685800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409680" cy="6858000"/>
          </a:xfrm>
          <a:prstGeom prst="rect">
            <a:avLst/>
          </a:prstGeom>
          <a:solidFill>
            <a:srgbClr val="436da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 rot="16200000">
            <a:off x="-3182760" y="3203280"/>
            <a:ext cx="6775560" cy="368280"/>
          </a:xfrm>
          <a:prstGeom prst="rect">
            <a:avLst/>
          </a:prstGeom>
          <a:solidFill>
            <a:srgbClr val="436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haroni"/>
                <a:ea typeface="BatangChe"/>
              </a:rPr>
              <a:t>SSVP SCOT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rcRect l="44446" t="58183" r="30404" b="18544"/>
          <a:stretch/>
        </p:blipFill>
        <p:spPr>
          <a:xfrm>
            <a:off x="6321600" y="5180040"/>
            <a:ext cx="2759040" cy="159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623880" y="108000"/>
            <a:ext cx="7002360" cy="2506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0"/>
            <a:ext cx="409680" cy="6858000"/>
          </a:xfrm>
          <a:prstGeom prst="rect">
            <a:avLst/>
          </a:prstGeom>
          <a:solidFill>
            <a:srgbClr val="436da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 rot="16200000">
            <a:off x="-2821680" y="3585240"/>
            <a:ext cx="6012000" cy="368280"/>
          </a:xfrm>
          <a:prstGeom prst="rect">
            <a:avLst/>
          </a:prstGeom>
          <a:solidFill>
            <a:srgbClr val="436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haroni"/>
                <a:ea typeface="BatangChe"/>
              </a:rPr>
              <a:t>SOCIETY OF ST VINCENT DE PAUL (SCOTLAN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rcRect l="4381" t="18277" r="73179" b="9876"/>
          <a:stretch/>
        </p:blipFill>
        <p:spPr>
          <a:xfrm>
            <a:off x="530280" y="166680"/>
            <a:ext cx="1041480" cy="119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rcRect l="44446" t="58183" r="30404" b="18544"/>
          <a:stretch/>
        </p:blipFill>
        <p:spPr>
          <a:xfrm>
            <a:off x="6384960" y="5262480"/>
            <a:ext cx="2759040" cy="1595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s://www.ssvpscotland.com/site/wp-content/uploads/Mini-Vinnies-Logo-online-300x300.jpg"/>
          <p:cNvPicPr/>
          <p:nvPr/>
        </p:nvPicPr>
        <p:blipFill>
          <a:blip r:embed="rId4"/>
          <a:stretch/>
        </p:blipFill>
        <p:spPr>
          <a:xfrm>
            <a:off x="658800" y="2003400"/>
            <a:ext cx="2990880" cy="285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s://www.ssvpscotland.com/site/wp-content/uploads/Youth-SSVP-logo-300x27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86240" y="1998720"/>
            <a:ext cx="2859120" cy="265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Users\youth\Desktop\1833.PNG"/>
          <p:cNvPicPr/>
          <p:nvPr/>
        </p:nvPicPr>
        <p:blipFill>
          <a:blip r:embed="rId7"/>
          <a:stretch/>
        </p:blipFill>
        <p:spPr>
          <a:xfrm>
            <a:off x="6384960" y="1838160"/>
            <a:ext cx="2706480" cy="2975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1160" y="0"/>
            <a:ext cx="9132840" cy="685800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409680" cy="6858000"/>
          </a:xfrm>
          <a:prstGeom prst="rect">
            <a:avLst/>
          </a:prstGeom>
          <a:solidFill>
            <a:srgbClr val="436da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 rot="16200000">
            <a:off x="-3182760" y="3203280"/>
            <a:ext cx="6775560" cy="368280"/>
          </a:xfrm>
          <a:prstGeom prst="rect">
            <a:avLst/>
          </a:prstGeom>
          <a:solidFill>
            <a:srgbClr val="436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haroni"/>
                <a:ea typeface="BatangChe"/>
              </a:rPr>
              <a:t>SOCIETY OF ST VINCENT DE PAUL (SCOTLAN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rcRect l="4381" t="18277" r="73179" b="9876"/>
          <a:stretch/>
        </p:blipFill>
        <p:spPr>
          <a:xfrm>
            <a:off x="530280" y="166680"/>
            <a:ext cx="1041480" cy="1195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11160" y="0"/>
            <a:ext cx="9132840" cy="685800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0"/>
            <a:ext cx="409680" cy="6858000"/>
          </a:xfrm>
          <a:prstGeom prst="rect">
            <a:avLst/>
          </a:prstGeom>
          <a:solidFill>
            <a:srgbClr val="436da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"/>
          <p:cNvSpPr/>
          <p:nvPr/>
        </p:nvSpPr>
        <p:spPr>
          <a:xfrm rot="16200000">
            <a:off x="-3182760" y="3203280"/>
            <a:ext cx="6775560" cy="368280"/>
          </a:xfrm>
          <a:prstGeom prst="rect">
            <a:avLst/>
          </a:prstGeom>
          <a:solidFill>
            <a:srgbClr val="436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haroni"/>
                <a:ea typeface="BatangChe"/>
              </a:rPr>
              <a:t>SOCIETY OF ST VINCENT DE PAUL (SCOTLAN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2"/>
          <a:srcRect l="4381" t="18277" r="73179" b="9876"/>
          <a:stretch/>
        </p:blipFill>
        <p:spPr>
          <a:xfrm>
            <a:off x="530280" y="166680"/>
            <a:ext cx="1041480" cy="1195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3"/>
          <a:srcRect l="44446" t="58183" r="30404" b="18544"/>
          <a:stretch/>
        </p:blipFill>
        <p:spPr>
          <a:xfrm>
            <a:off x="6321600" y="5180040"/>
            <a:ext cx="2759040" cy="1595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11160" y="0"/>
            <a:ext cx="9132840" cy="685800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409680" cy="6858000"/>
          </a:xfrm>
          <a:prstGeom prst="rect">
            <a:avLst/>
          </a:prstGeom>
          <a:solidFill>
            <a:srgbClr val="436da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6"/>
          <p:cNvSpPr/>
          <p:nvPr/>
        </p:nvSpPr>
        <p:spPr>
          <a:xfrm rot="16200000">
            <a:off x="-3219120" y="3244680"/>
            <a:ext cx="6858000" cy="368280"/>
          </a:xfrm>
          <a:prstGeom prst="rect">
            <a:avLst/>
          </a:prstGeom>
          <a:solidFill>
            <a:srgbClr val="436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haroni"/>
                <a:ea typeface="BatangChe"/>
              </a:rPr>
              <a:t>SOCIETY OF ST VINCENT DE PAUL (SCOTLAN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2"/>
          <a:srcRect l="4381" t="18277" r="73179" b="9876"/>
          <a:stretch/>
        </p:blipFill>
        <p:spPr>
          <a:xfrm>
            <a:off x="530280" y="166680"/>
            <a:ext cx="1041480" cy="1195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3"/>
          <a:srcRect l="44446" t="58183" r="30404" b="18544"/>
          <a:stretch/>
        </p:blipFill>
        <p:spPr>
          <a:xfrm>
            <a:off x="6321600" y="5180040"/>
            <a:ext cx="2759040" cy="15955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11160" y="0"/>
            <a:ext cx="9132840" cy="685800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409680" cy="6858000"/>
          </a:xfrm>
          <a:prstGeom prst="rect">
            <a:avLst/>
          </a:prstGeom>
          <a:solidFill>
            <a:srgbClr val="436da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6"/>
          <p:cNvSpPr/>
          <p:nvPr/>
        </p:nvSpPr>
        <p:spPr>
          <a:xfrm rot="16200000">
            <a:off x="-3163680" y="3203280"/>
            <a:ext cx="6775560" cy="368280"/>
          </a:xfrm>
          <a:prstGeom prst="rect">
            <a:avLst/>
          </a:prstGeom>
          <a:solidFill>
            <a:srgbClr val="436d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haroni"/>
                <a:ea typeface="BatangChe"/>
              </a:rPr>
              <a:t>SSVP SCOT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2"/>
          <a:srcRect l="4381" t="18277" r="73179" b="9876"/>
          <a:stretch/>
        </p:blipFill>
        <p:spPr>
          <a:xfrm>
            <a:off x="530280" y="166680"/>
            <a:ext cx="1041480" cy="1195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3"/>
          <a:srcRect l="44446" t="58183" r="30404" b="18544"/>
          <a:stretch/>
        </p:blipFill>
        <p:spPr>
          <a:xfrm>
            <a:off x="6321600" y="5180040"/>
            <a:ext cx="2759040" cy="15955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0160" y="770040"/>
            <a:ext cx="7315200" cy="16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103360" y="24379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2080" indent="-22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29080" indent="-20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0800" indent="-248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19920" indent="-2761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E1014-A487-4D23-8BB8-CBD8A75CF6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extBox 1" descr=""/>
          <p:cNvPicPr/>
          <p:nvPr/>
        </p:nvPicPr>
        <p:blipFill>
          <a:blip r:embed="rId1"/>
          <a:stretch/>
        </p:blipFill>
        <p:spPr>
          <a:xfrm>
            <a:off x="865080" y="2494080"/>
            <a:ext cx="753588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4"/>
          <p:cNvSpPr/>
          <p:nvPr/>
        </p:nvSpPr>
        <p:spPr>
          <a:xfrm>
            <a:off x="419040" y="1943280"/>
            <a:ext cx="87249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7e0f7c"/>
                </a:solidFill>
                <a:latin typeface="Arial"/>
                <a:ea typeface="Arial"/>
              </a:rPr>
              <a:t>How did you do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36da7"/>
                </a:solidFill>
                <a:latin typeface="Arial"/>
                <a:ea typeface="Arial"/>
              </a:rPr>
              <a:t>Swap answers with another te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787320" y="977400"/>
            <a:ext cx="6578640" cy="527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7e0f7c"/>
                </a:solidFill>
                <a:latin typeface="Arial"/>
                <a:ea typeface="Arial"/>
              </a:rPr>
              <a:t>Round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436da7"/>
                </a:solidFill>
                <a:latin typeface="Arial"/>
                <a:ea typeface="Arial"/>
              </a:rPr>
              <a:t>True or Fa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ociety of St Vincent de Paul was started by St Vincent de Pa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have to be a man to the be in the SS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SVP is only in Scot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SVP was started in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ng people can be SSVP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7245360" y="26956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7245360" y="345600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7245360" y="41497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9"/>
          <p:cNvSpPr/>
          <p:nvPr/>
        </p:nvSpPr>
        <p:spPr>
          <a:xfrm>
            <a:off x="7257960" y="466092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3cab26"/>
                </a:solidFill>
                <a:latin typeface="Arial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7272360" y="516420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3cab26"/>
                </a:solidFill>
                <a:latin typeface="Arial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Content Placeholder 2"/>
          <p:cNvSpPr/>
          <p:nvPr/>
        </p:nvSpPr>
        <p:spPr>
          <a:xfrm>
            <a:off x="482760" y="1400040"/>
            <a:ext cx="82105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70c0"/>
                </a:solidFill>
                <a:latin typeface="Arial"/>
                <a:ea typeface="Arial"/>
              </a:rPr>
              <a:t>A,B or C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6. How many people are SSVP members(volunteers) are there in the worl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b) 2700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c)800,0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7.In how many countries does the SSVP exi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b) 73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c) 15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5872320" y="3271680"/>
            <a:ext cx="1823760" cy="839880"/>
          </a:xfrm>
          <a:prstGeom prst="ellipse">
            <a:avLst/>
          </a:prstGeom>
          <a:noFill/>
          <a:ln w="57240">
            <a:solidFill>
              <a:srgbClr val="7e0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5872320" y="5016600"/>
            <a:ext cx="1498320" cy="839520"/>
          </a:xfrm>
          <a:prstGeom prst="ellipse">
            <a:avLst/>
          </a:prstGeom>
          <a:noFill/>
          <a:ln w="57240">
            <a:solidFill>
              <a:srgbClr val="7e0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4"/>
          <p:cNvSpPr/>
          <p:nvPr/>
        </p:nvSpPr>
        <p:spPr>
          <a:xfrm>
            <a:off x="822240" y="1422360"/>
            <a:ext cx="86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7e0f7c"/>
                </a:solidFill>
                <a:latin typeface="Arial"/>
                <a:ea typeface="Arial"/>
              </a:rPr>
              <a:t>Round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096920" y="3747960"/>
            <a:ext cx="1428840" cy="14130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7"/>
          <p:cNvSpPr/>
          <p:nvPr/>
        </p:nvSpPr>
        <p:spPr>
          <a:xfrm>
            <a:off x="6951600" y="149868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1620720" y="3236760"/>
            <a:ext cx="42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7021440" y="3262320"/>
            <a:ext cx="42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4362480" y="3297240"/>
            <a:ext cx="42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2" descr="Image result for catholic logo"/>
          <p:cNvPicPr/>
          <p:nvPr/>
        </p:nvPicPr>
        <p:blipFill>
          <a:blip r:embed="rId2"/>
          <a:stretch/>
        </p:blipFill>
        <p:spPr>
          <a:xfrm>
            <a:off x="3844800" y="3857760"/>
            <a:ext cx="1208160" cy="1423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Image result for catholic logo"/>
          <p:cNvPicPr/>
          <p:nvPr/>
        </p:nvPicPr>
        <p:blipFill>
          <a:blip r:embed="rId3"/>
          <a:stretch/>
        </p:blipFill>
        <p:spPr>
          <a:xfrm>
            <a:off x="6624720" y="3747960"/>
            <a:ext cx="992160" cy="16527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822240" y="1862280"/>
            <a:ext cx="877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Arial"/>
                <a:ea typeface="Arial"/>
              </a:rPr>
              <a:t>A,B or 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. Which of these is the SSVP lo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"/>
          <p:cNvSpPr/>
          <p:nvPr/>
        </p:nvSpPr>
        <p:spPr>
          <a:xfrm>
            <a:off x="565200" y="3262320"/>
            <a:ext cx="2523960" cy="2428920"/>
          </a:xfrm>
          <a:prstGeom prst="ellipse">
            <a:avLst/>
          </a:prstGeom>
          <a:noFill/>
          <a:ln w="25560">
            <a:solidFill>
              <a:srgbClr val="7e0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4"/>
          <p:cNvSpPr/>
          <p:nvPr/>
        </p:nvSpPr>
        <p:spPr>
          <a:xfrm>
            <a:off x="193680" y="1119240"/>
            <a:ext cx="856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1703520" y="2260440"/>
            <a:ext cx="4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6824520" y="2265480"/>
            <a:ext cx="42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4264200" y="2274840"/>
            <a:ext cx="42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2" descr="Image result for frederic ozanam"/>
          <p:cNvPicPr/>
          <p:nvPr/>
        </p:nvPicPr>
        <p:blipFill>
          <a:blip r:embed="rId1"/>
          <a:stretch/>
        </p:blipFill>
        <p:spPr>
          <a:xfrm>
            <a:off x="3745080" y="3371760"/>
            <a:ext cx="1463400" cy="2143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Image result for POPE GREGORY xvi"/>
          <p:cNvPicPr/>
          <p:nvPr/>
        </p:nvPicPr>
        <p:blipFill>
          <a:blip r:embed="rId2"/>
          <a:stretch/>
        </p:blipFill>
        <p:spPr>
          <a:xfrm>
            <a:off x="1117440" y="3351240"/>
            <a:ext cx="1595520" cy="23083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8"/>
          <p:cNvSpPr/>
          <p:nvPr/>
        </p:nvSpPr>
        <p:spPr>
          <a:xfrm>
            <a:off x="820800" y="282096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pe Gregory 16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3486240" y="282096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deric Oza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12"/>
          <p:cNvSpPr/>
          <p:nvPr/>
        </p:nvSpPr>
        <p:spPr>
          <a:xfrm>
            <a:off x="5931000" y="2814480"/>
            <a:ext cx="23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 Louise de Maril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6" descr="Image result for st louise de marillac"/>
          <p:cNvPicPr/>
          <p:nvPr/>
        </p:nvPicPr>
        <p:blipFill>
          <a:blip r:embed="rId3"/>
          <a:stretch/>
        </p:blipFill>
        <p:spPr>
          <a:xfrm>
            <a:off x="6267600" y="3510000"/>
            <a:ext cx="1660320" cy="200484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4"/>
          <p:cNvSpPr/>
          <p:nvPr/>
        </p:nvSpPr>
        <p:spPr>
          <a:xfrm>
            <a:off x="528480" y="612720"/>
            <a:ext cx="877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Arial"/>
                <a:ea typeface="Arial"/>
              </a:rPr>
              <a:t>A,B or 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. Which of these people started the SSVP in 183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13"/>
          <p:cNvSpPr/>
          <p:nvPr/>
        </p:nvSpPr>
        <p:spPr>
          <a:xfrm>
            <a:off x="3254400" y="2057400"/>
            <a:ext cx="2281320" cy="3719520"/>
          </a:xfrm>
          <a:prstGeom prst="ellipse">
            <a:avLst/>
          </a:prstGeom>
          <a:noFill/>
          <a:ln w="25560">
            <a:solidFill>
              <a:srgbClr val="7e0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5"/>
          <p:cNvSpPr/>
          <p:nvPr/>
        </p:nvSpPr>
        <p:spPr>
          <a:xfrm>
            <a:off x="431640" y="547560"/>
            <a:ext cx="8712360" cy="65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436da7"/>
                </a:solidFill>
                <a:latin typeface="Arial"/>
                <a:ea typeface="Arial"/>
              </a:rPr>
              <a:t>Using the information in the vide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436da7"/>
                </a:solidFill>
                <a:latin typeface="Arial"/>
                <a:ea typeface="Arial"/>
              </a:rPr>
              <a:t>Fill in the blank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1. “SSVP gives _ _ _ _ _ _/_ _/_ _ _ _ _ _ help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2. The SSVP is part of the V_ _ _ _ _ _ _ _ _ Fam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3124080" y="3005280"/>
            <a:ext cx="454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7e0f7c"/>
                </a:solidFill>
                <a:latin typeface="Calibri"/>
              </a:rPr>
              <a:t>P e r  s o n  t o  p e r  s  o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5224320" y="4351320"/>
            <a:ext cx="29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7e0f7c"/>
                </a:solidFill>
                <a:latin typeface="Calibri"/>
              </a:rPr>
              <a:t>i  n c e  n t  i  a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4"/>
          <p:cNvSpPr/>
          <p:nvPr/>
        </p:nvSpPr>
        <p:spPr>
          <a:xfrm>
            <a:off x="596880" y="1343160"/>
            <a:ext cx="8420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3. What are 2 basic SSVP principles(ideas to live by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092240" y="2579760"/>
            <a:ext cx="931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7e0f7c"/>
                </a:solidFill>
                <a:latin typeface="Arial"/>
                <a:ea typeface="Arial"/>
              </a:rPr>
              <a:t>Continuing prayer(deepening faith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1092240" y="3917880"/>
            <a:ext cx="805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7e0f7c"/>
                </a:solidFill>
                <a:latin typeface="Arial"/>
                <a:ea typeface="Arial"/>
              </a:rPr>
              <a:t>Meeting with Christ through the po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5"/>
          <p:cNvSpPr/>
          <p:nvPr/>
        </p:nvSpPr>
        <p:spPr>
          <a:xfrm>
            <a:off x="662040" y="1133640"/>
            <a:ext cx="845820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4) Does the SSVP only help people onc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Yes or 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5) The SSVP only helps homeless peopl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True or Fal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  <a:ea typeface="Arial"/>
              </a:rPr>
              <a:t>Bonus point (for each correct answer)-how else does the SSVP hel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2"/>
          <p:cNvSpPr/>
          <p:nvPr/>
        </p:nvSpPr>
        <p:spPr>
          <a:xfrm>
            <a:off x="5202360" y="2070000"/>
            <a:ext cx="652320" cy="698760"/>
          </a:xfrm>
          <a:prstGeom prst="ellipse">
            <a:avLst/>
          </a:prstGeom>
          <a:noFill/>
          <a:ln w="25560">
            <a:solidFill>
              <a:srgbClr val="7e0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"/>
          <p:cNvSpPr/>
          <p:nvPr/>
        </p:nvSpPr>
        <p:spPr>
          <a:xfrm>
            <a:off x="5022720" y="3871800"/>
            <a:ext cx="1098720" cy="808200"/>
          </a:xfrm>
          <a:prstGeom prst="ellipse">
            <a:avLst/>
          </a:prstGeom>
          <a:noFill/>
          <a:ln w="25560">
            <a:solidFill>
              <a:srgbClr val="7e0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"/>
          <p:cNvSpPr/>
          <p:nvPr/>
        </p:nvSpPr>
        <p:spPr>
          <a:xfrm>
            <a:off x="512640" y="5691240"/>
            <a:ext cx="86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7e0f7c"/>
                </a:solidFill>
                <a:latin typeface="Calibri"/>
              </a:rPr>
              <a:t>Health, agriculture, education, housing, employment support, help for elderly and disabled (1 point per answ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28800" y="109080"/>
            <a:ext cx="7315200" cy="16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900" spc="-1" strike="noStrike">
                <a:solidFill>
                  <a:srgbClr val="7e0f7c"/>
                </a:solidFill>
                <a:latin typeface="Arial"/>
                <a:ea typeface="Arial"/>
              </a:rPr>
              <a:t>What do you know?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49280" y="2125440"/>
            <a:ext cx="8694720" cy="473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7e0f7c"/>
                </a:solidFill>
                <a:latin typeface="Arial"/>
                <a:ea typeface="Arial"/>
              </a:rPr>
              <a:t>Round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Arial"/>
                <a:ea typeface="Arial"/>
              </a:rPr>
              <a:t>True or fals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ociety of St Vincent de Paul was started by St Vincent de Pa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have to be a man to be in the SS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SVP is only in Scot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SVP was started in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8640" indent="-38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ng people can be SSVP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Content Placeholder 2"/>
          <p:cNvSpPr/>
          <p:nvPr/>
        </p:nvSpPr>
        <p:spPr>
          <a:xfrm>
            <a:off x="482760" y="1400040"/>
            <a:ext cx="857232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Arial"/>
                <a:ea typeface="Arial"/>
              </a:rPr>
              <a:t>A,B or 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6. How many people are SSVP members (volunteers) are there in the wor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) 270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)800,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7.In how many countries does the SSVP exi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) 7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) 1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4"/>
          <p:cNvSpPr/>
          <p:nvPr/>
        </p:nvSpPr>
        <p:spPr>
          <a:xfrm>
            <a:off x="549360" y="1422360"/>
            <a:ext cx="86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7e0f7c"/>
                </a:solidFill>
                <a:latin typeface="Arial"/>
                <a:ea typeface="Arial"/>
              </a:rPr>
              <a:t>Round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822240" y="3747960"/>
            <a:ext cx="1428840" cy="1413000"/>
          </a:xfrm>
          <a:prstGeom prst="rect">
            <a:avLst/>
          </a:prstGeom>
          <a:ln w="0">
            <a:noFill/>
          </a:ln>
        </p:spPr>
      </p:pic>
      <p:sp>
        <p:nvSpPr>
          <p:cNvPr id="388" name="TextBox 7"/>
          <p:cNvSpPr/>
          <p:nvPr/>
        </p:nvSpPr>
        <p:spPr>
          <a:xfrm>
            <a:off x="6678720" y="14986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1347840" y="3236760"/>
            <a:ext cx="42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9"/>
          <p:cNvSpPr/>
          <p:nvPr/>
        </p:nvSpPr>
        <p:spPr>
          <a:xfrm>
            <a:off x="6748560" y="3262320"/>
            <a:ext cx="4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0"/>
          <p:cNvSpPr/>
          <p:nvPr/>
        </p:nvSpPr>
        <p:spPr>
          <a:xfrm>
            <a:off x="4089240" y="3297240"/>
            <a:ext cx="42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Image result for catholic logo"/>
          <p:cNvPicPr/>
          <p:nvPr/>
        </p:nvPicPr>
        <p:blipFill>
          <a:blip r:embed="rId2"/>
          <a:stretch/>
        </p:blipFill>
        <p:spPr>
          <a:xfrm>
            <a:off x="3571920" y="3857760"/>
            <a:ext cx="1208160" cy="1423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Image result for catholic logo"/>
          <p:cNvPicPr/>
          <p:nvPr/>
        </p:nvPicPr>
        <p:blipFill>
          <a:blip r:embed="rId3"/>
          <a:stretch/>
        </p:blipFill>
        <p:spPr>
          <a:xfrm>
            <a:off x="6351480" y="3747960"/>
            <a:ext cx="992160" cy="16527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1"/>
          <p:cNvSpPr/>
          <p:nvPr/>
        </p:nvSpPr>
        <p:spPr>
          <a:xfrm>
            <a:off x="549360" y="1862280"/>
            <a:ext cx="877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Arial"/>
                <a:ea typeface="Arial"/>
              </a:rPr>
              <a:t>A,B or 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. Which of these is the SSVP lo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Oval 13" descr=""/>
          <p:cNvPicPr/>
          <p:nvPr/>
        </p:nvPicPr>
        <p:blipFill>
          <a:blip r:embed="rId4"/>
          <a:stretch/>
        </p:blipFill>
        <p:spPr>
          <a:xfrm>
            <a:off x="493560" y="152280"/>
            <a:ext cx="1079640" cy="10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4"/>
          <p:cNvSpPr/>
          <p:nvPr/>
        </p:nvSpPr>
        <p:spPr>
          <a:xfrm>
            <a:off x="193680" y="1119240"/>
            <a:ext cx="856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1703520" y="2260440"/>
            <a:ext cx="4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6824520" y="2265480"/>
            <a:ext cx="42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4264200" y="2274840"/>
            <a:ext cx="42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Image result for frederic ozanam"/>
          <p:cNvPicPr/>
          <p:nvPr/>
        </p:nvPicPr>
        <p:blipFill>
          <a:blip r:embed="rId1"/>
          <a:stretch/>
        </p:blipFill>
        <p:spPr>
          <a:xfrm>
            <a:off x="3745080" y="3371760"/>
            <a:ext cx="1463400" cy="2143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Image result for POPE GREGORY xvi"/>
          <p:cNvPicPr/>
          <p:nvPr/>
        </p:nvPicPr>
        <p:blipFill>
          <a:blip r:embed="rId2"/>
          <a:stretch/>
        </p:blipFill>
        <p:spPr>
          <a:xfrm>
            <a:off x="1117440" y="3351240"/>
            <a:ext cx="1595520" cy="2308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820800" y="282096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pe Gregory 16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1"/>
          <p:cNvSpPr/>
          <p:nvPr/>
        </p:nvSpPr>
        <p:spPr>
          <a:xfrm>
            <a:off x="3486240" y="282096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deric Oza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2"/>
          <p:cNvSpPr/>
          <p:nvPr/>
        </p:nvSpPr>
        <p:spPr>
          <a:xfrm>
            <a:off x="5931000" y="2814480"/>
            <a:ext cx="23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 Louise de Maril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6" descr="Image result for st louise de marillac"/>
          <p:cNvPicPr/>
          <p:nvPr/>
        </p:nvPicPr>
        <p:blipFill>
          <a:blip r:embed="rId3"/>
          <a:stretch/>
        </p:blipFill>
        <p:spPr>
          <a:xfrm>
            <a:off x="6267600" y="3510000"/>
            <a:ext cx="1660320" cy="2004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4"/>
          <p:cNvSpPr/>
          <p:nvPr/>
        </p:nvSpPr>
        <p:spPr>
          <a:xfrm>
            <a:off x="528480" y="612720"/>
            <a:ext cx="877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Arial"/>
                <a:ea typeface="Arial"/>
              </a:rPr>
              <a:t>A,B or 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. Which of these people started the SSVP in 183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4"/>
          <p:cNvSpPr/>
          <p:nvPr/>
        </p:nvSpPr>
        <p:spPr>
          <a:xfrm>
            <a:off x="595440" y="338040"/>
            <a:ext cx="82245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  <a:ea typeface="Arial"/>
              </a:rPr>
              <a:t>Round 3: Video 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SSVP Mission[720P]" descr=""/>
          <p:cNvPicPr/>
          <p:nvPr/>
        </p:nvPicPr>
        <p:blipFill>
          <a:blip r:embed="rId1"/>
          <a:stretch/>
        </p:blipFill>
        <p:spPr>
          <a:xfrm>
            <a:off x="595440" y="1473120"/>
            <a:ext cx="83991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5"/>
          <p:cNvSpPr/>
          <p:nvPr/>
        </p:nvSpPr>
        <p:spPr>
          <a:xfrm>
            <a:off x="431640" y="547560"/>
            <a:ext cx="8712360" cy="65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436da7"/>
                </a:solidFill>
                <a:latin typeface="Arial"/>
                <a:ea typeface="Arial"/>
              </a:rPr>
              <a:t>Using the information in the vide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436da7"/>
                </a:solidFill>
                <a:latin typeface="Arial"/>
                <a:ea typeface="Arial"/>
              </a:rPr>
              <a:t>Fill in the blank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1. “SSVP gives _ _ _ _ _ _/_ _/_ _ _ _ _ _ help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2. The SSVP is part of the V_ _ _ _ _ _ _ _ _ Fam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4"/>
          <p:cNvSpPr/>
          <p:nvPr/>
        </p:nvSpPr>
        <p:spPr>
          <a:xfrm>
            <a:off x="596880" y="1343160"/>
            <a:ext cx="8420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3. What are 2 basic SSVP principles(ideas to live by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5"/>
          <p:cNvSpPr/>
          <p:nvPr/>
        </p:nvSpPr>
        <p:spPr>
          <a:xfrm>
            <a:off x="596880" y="1343160"/>
            <a:ext cx="845820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4) Does the SSVP only help people onc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Yes or 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5) The SSVP only helps homeless peopl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True or Fal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70c0"/>
                </a:solidFill>
                <a:latin typeface="Arial"/>
                <a:ea typeface="Arial"/>
              </a:rPr>
              <a:t>Bonus point (for each correct answer)-how else does the SSVP help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xall, Elizabeth</dc:creator>
  <dc:description/>
  <dc:language>en-US</dc:language>
  <cp:lastModifiedBy>Lucy Mason</cp:lastModifiedBy>
  <cp:lastPrinted>2019-07-31T15:08:16Z</cp:lastPrinted>
  <dcterms:modified xsi:type="dcterms:W3CDTF">2019-07-31T15:08:42Z</dcterms:modified>
  <cp:revision>243</cp:revision>
  <dc:subject/>
  <dc:title>PowerPoint Presentation</dc:title>
</cp:coreProperties>
</file>